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6D2-8449-42B5-9F56-0EA81A50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2E8-A6ED-460E-974F-40459DD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249-3839-412D-BDD1-AAF9BD2C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521-C5F7-4F52-B527-B6A45A1EE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083-ED3A-4003-A3E0-8A9E50F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B732-9D6F-46A4-9D27-11B7E4E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B87-9C4E-4564-A2B5-E0EFC333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819-76EE-4DE2-B76B-881EEB0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F82-F8C3-4BD2-9F3D-5370B57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824-5051-4F13-B439-DA83DDD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0371-DFDD-4AC3-8253-A1BF40F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C081-4BFD-4374-9060-45092BE3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C00-7A9D-438B-B7D1-A9CDA1D7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29113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86600" cy="495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209680" y="31240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ilele creatie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lumină!" Şi a fost lumină. (Facerea 1,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o tărie prin mijlocul apelor şi să despartă ape de ape!" Şi a fost aşa. (Facerea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6576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dea pământul din sine verdeaţă: iarbă, cu sămânţă într-însa, după felul şi asemănarea ei, şi pomi roditori, care să dea rod cu sămânţă în sine, după fel, pe pământ!" Şi a fost aşa.  (Facerea1,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zis Dumnezeu: "Să fie luminători pe tăria cerului, ca să lumineze pe pământ, să despartă ziua de noapte şi să fie semne ca să deosebească anotimpurile, zilele şi anii,  (Facerea1,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mişune apele de vietăţi, fiinţe cu viaţă în ele şi păsări să zboare pe pământ, pe întinsul tăriei cerului!" Şi a fost aş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erea1,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i a zis Dumnezeu: "Să scoată pământul fiinţe vii, după felul lor: animale, târâtoare şi fiare sălbatice după felul lor". Şi a fost aşa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făcut Dumnezeu pe om după chipul Său; după chipul lui Dumnezeu l-a făcut; a făcut bărbat şi femei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acerea1,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Şi a binecuvântat Dumnezeu ziua a şaptea şi a sfinţit-o, pentru că într-însa S-a odihnit de toate lucrurile Sale, pe care le-a făcut şi le-a pus în rânduial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acerea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2:18:46Z</dcterms:created>
  <dc:creator>owner</dc:creator>
  <dc:description/>
  <dc:language>en-US</dc:language>
  <cp:lastModifiedBy>PC</cp:lastModifiedBy>
  <dcterms:modified xsi:type="dcterms:W3CDTF">2009-10-28T17:28:29Z</dcterms:modified>
  <cp:revision>10</cp:revision>
  <dc:subject/>
  <dc:title>Citat biblic ziua I </dc:title>
</cp:coreProperties>
</file>